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0619-2DC4-434D-8780-A3C8A183D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57FB-8904-488F-B66F-3194F1071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937E-52CD-4EE7-8C64-2663C278B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64FC-5F45-480E-AB05-67A7DEE87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B47F-5FFB-41E4-8224-5D2DB81C7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932-848C-485B-AEAC-852E064C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02E-C3F1-439E-8DF9-930AF054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BD4-85DC-4962-93AB-35E2272A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C3C-5B6C-48D4-80DA-4B212922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65F4-3A8F-45F2-A1A8-4D33178E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F2E6-A866-4647-B906-4E2E0D9B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3E0A-DE39-403A-934C-A276AFDA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65D1-EBBE-4FF6-A54A-A06385E0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71D0-A4D2-402F-93B6-0259EA4D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1A75-28C4-4BB7-AF22-8C7C32D1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C995-BD32-4F48-9BAD-767F8C2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2A4-7DF4-45A9-B098-C348B36B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4381-E9D7-4A76-9D81-F483FCB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6C44-B8A0-447E-908B-F08B845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2B32-46E6-418F-A6D3-D547ADB1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4FD6-5DE3-49AC-95C8-A9B09EC4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78FB-7AF5-4B49-90D5-9FEF7E20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0E179-EEAC-4354-9152-4FDB50D9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E78B7-A785-4C54-A754-06109BB6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5E3BC-C94C-44ED-A301-3BD892C2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43D46-E158-4FB8-8A06-0ED094D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524F4-DFC1-433E-BC7C-FE5D9400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B88-000E-4E98-A186-25947C79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16DA3-636A-41A0-AAD5-B0CDE4F4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BBDE0-EE45-4EB7-9518-5B2551D7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48384-4728-46DE-B063-DFAE4252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6DD16-29EF-4EAA-946A-537FCE30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E8EC2-DE2C-402B-B44B-3F2CB334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6C7CD-DB59-4F27-AECF-BC4066A1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3B367-A511-4C15-B303-142D594A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0800-9B90-420A-BD4D-5FB86984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6857-7E67-4063-B7E6-9BB765DA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EEA4D-DBBE-4A05-A872-72FC86C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1C7-8677-46F8-B23D-F21B4D47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39FF-795E-463B-8F41-84C80187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3E2B-FDA0-4A54-8287-B60D9319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C400B-BA1B-4D82-ABE7-A73A4BE7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5904E-694D-4AFC-B053-5AE686AA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BF44-F0C8-4FEA-B571-87862DF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7B95-D90D-4E51-B593-3AA2254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2312A-17D1-4304-B3D0-4F02E79B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60015-37B9-42FF-BD8C-89FAE304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CD93-20DE-4BF1-A6D5-D507AF70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2B723-3766-4E06-B689-91AD30D6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860-1192-4EFD-B3D8-5CE000BB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2FD0D-A45E-4C25-A001-72F2A056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040C0-50C5-4D04-B5DD-D6C81C71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FD5CE-58D9-46C8-AC27-44F93403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1F798-6D47-441F-93C9-5F9C10F8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C5B4A-1A9F-419C-8ED7-AEA05D0E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4C313-EF10-4A10-B526-ABF47ADD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6C7F6-3BA1-41CD-B116-C13211DD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7D2F3-2818-4294-87EB-6C2BD5C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9CE56-7AAA-4AB7-BDC7-D80732F8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B0047-34D5-4156-9E5D-862156F2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28C-ABCD-4F22-B322-E3E4E30D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20730-2963-4BAF-BE1F-D93B2A34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81EBB-ECE6-4454-A8E4-F5497808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EAD17-239F-414C-844B-19BC97EB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EA0C4-E9D8-44D9-A7CA-11A63211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B9985-F270-41E0-9103-B7332F6E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D0986-393B-4837-B597-9D6F93BB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C5CF5-91BF-4E47-958E-C12A498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34175-E575-4B8F-A1BF-9618199C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AF4F6-5B05-488E-9F92-7550262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99CA7-92FC-4F81-B53A-5D28EE7F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282-86C2-4152-A5E1-C13CE72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3D466-3EE9-42EA-A366-6885B90C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D6C5F-75B5-4B94-9756-C4F91AB8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F873D-3BB8-4CCD-8BA7-9077E4DA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AF65B-0BEA-4502-B1F8-37573AED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54B05-A257-4100-B911-57DD6156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5E755-5EAD-4FA6-A9C6-727AA66A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900CC-ABE9-407E-AC4F-D2BE6EB8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80A8CC-4D94-44CF-8F30-0F6BC9C7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64D20-07BC-4ACC-9D34-B65749D7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5EF25-1EA1-422B-ADFD-3B30C8DC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C0A-B109-4053-B8F0-3111416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2B34B-0FF0-49C4-B749-D9671863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EDAFC-FA0B-4176-8FF6-7427479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CD513-F0FC-4491-BD21-80602E74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2BA86-6570-4DC8-B913-C725E3D9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B2719-962E-43C5-A013-4FFE276D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8A0-5234-4462-9A91-8C01159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7206-B9C2-43DE-80FB-C1062AA305D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95D6-DAB4-4DA3-B9CD-7EEA9277C9D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5FC2-FED4-4E50-888B-EE2E5B60F4C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B870-8945-48F6-921D-379220908CE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CB37-1F09-4EAF-9E88-7466EF331FA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5E49-9E32-453D-81F5-74C946AC4B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A07-9F2C-4605-BEC9-3955C709BBB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entury Schoolbook"/>
              </a:rPr>
              <a:t>QUIZ #4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ENGLISH 201 Summer 2011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Prof. Everso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98072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39d"/>
                </a:solidFill>
                <a:latin typeface="Century Schoolbook"/>
              </a:rPr>
              <a:t>Put your name at top, today’s date, June 9, 2011 and Quiz #4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Title 1"/>
          <p:cNvSpPr/>
          <p:nvPr/>
        </p:nvSpPr>
        <p:spPr>
          <a:xfrm>
            <a:off x="2666880" y="380880"/>
            <a:ext cx="647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WORK INDIVIDU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Placeholder 2"/>
          <p:cNvSpPr/>
          <p:nvPr/>
        </p:nvSpPr>
        <p:spPr>
          <a:xfrm>
            <a:off x="2514600" y="2438280"/>
            <a:ext cx="3581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Copy the whole sent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Fill in the blank with one of the words at the t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Underline</a:t>
            </a: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 the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You will have 10 minutes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Good lu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C:\Users\jose\AppData\Local\Microsoft\Windows\Temporary Internet Files\Content.IE5\6X679QE1\MC900413460[1].wmf"/>
          <p:cNvPicPr/>
          <p:nvPr/>
        </p:nvPicPr>
        <p:blipFill>
          <a:blip r:embed="rId1"/>
          <a:stretch/>
        </p:blipFill>
        <p:spPr>
          <a:xfrm>
            <a:off x="6477120" y="1143000"/>
            <a:ext cx="1904760" cy="2021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vocabulary.png"/>
          <p:cNvPicPr/>
          <p:nvPr/>
        </p:nvPicPr>
        <p:blipFill>
          <a:blip r:embed="rId2"/>
          <a:stretch/>
        </p:blipFill>
        <p:spPr>
          <a:xfrm>
            <a:off x="6629400" y="3809880"/>
            <a:ext cx="1965240" cy="2595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C:\Users\jose\AppData\Local\Microsoft\Windows\Temporary Internet Files\Content.IE5\QAUPEWIM\MC900434665[1].wmf"/>
          <p:cNvPicPr/>
          <p:nvPr/>
        </p:nvPicPr>
        <p:blipFill>
          <a:blip r:embed="rId3"/>
          <a:stretch/>
        </p:blipFill>
        <p:spPr>
          <a:xfrm>
            <a:off x="1752480" y="457200"/>
            <a:ext cx="838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9"/>
          <p:cNvSpPr/>
          <p:nvPr/>
        </p:nvSpPr>
        <p:spPr>
          <a:xfrm>
            <a:off x="0" y="41400"/>
            <a:ext cx="9144000" cy="7119720"/>
          </a:xfrm>
          <a:prstGeom prst="rect">
            <a:avLst/>
          </a:prstGeom>
          <a:solidFill>
            <a:srgbClr val="121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social       round       physical            flat   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static      philosophical       dynamic      intellec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The people in a story are called 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____ is the way the writer makes characters seem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A stock or stereotyped character is called a ___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___________ characters are complex and display conflicts found in real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A __________ character is one that does not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A character is ____________ if she/he shows a substantial change through the action of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Describing how a character looks is a ___________  analysis of a charac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Describing what a character knows and how they learn is an _____________ analysis of the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Describing the class a character belongs to is a __________ analysis of the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Describing a character’s outlook on life and beliefs is a _________ analysis of a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39d"/>
                </a:solidFill>
                <a:latin typeface="Century Schoolbook"/>
              </a:rPr>
              <a:t>TURN IN YOUR QUIZ</a:t>
            </a:r>
            <a:endParaRPr b="0" lang="en-US" sz="66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2:44:02Z</dcterms:created>
  <dc:creator>Preferred User</dc:creator>
  <dc:description/>
  <dc:language>en-US</dc:language>
  <cp:lastModifiedBy>Sally Everson</cp:lastModifiedBy>
  <dcterms:modified xsi:type="dcterms:W3CDTF">2011-06-09T14:16:38Z</dcterms:modified>
  <cp:revision>116</cp:revision>
  <dc:subject/>
  <dc:title>QUIZ #1</dc:title>
</cp:coreProperties>
</file>